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F72-C50B-4BA5-8663-E20EB423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896-9CB8-4EDF-A4CD-4CDEF201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F240-E028-4300-83EB-4BEFC379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DFB-7C79-489F-8D89-39917056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69A-D13D-44E6-878B-0B4EB05C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E26-5E3E-434C-AC60-76E06490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D8B-5603-419C-8666-D1391BFA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47F-3339-49E0-851E-6A91AA40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664F-5C04-4556-ADDD-0BB5BDC9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A23-4256-474B-95DA-2F39094F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628-F51C-4B5E-A541-F2D4DDE9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C1C-3DFA-4073-85BD-68EE2DBC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B84A-20BA-4D9E-BC98-60FDF4F25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5029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 wide business slump of the 193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st long period of high unemployment and low business activity and modern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pression affect all most very 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ing effects on the U.S. governments and on many Americ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1752480"/>
            <a:ext cx="327636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didn’t really have the money they were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.S. was a major credit loaner to other nations in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f these nations could not pay us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2971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arm Depression of the 192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s of farm products felled about 40% in 1920-1921 and they remained low through the 1920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results some farmers lost so much money they couldn’t pay the mortgage on their fa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y either had to rent the land or 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1905120"/>
            <a:ext cx="213372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neven Distribution of Inco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ustrial productions increased about 50% but the wages of the industrial workers rose far more slow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results these workers couldn’t buy goods so fast as industry produc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1828800"/>
            <a:ext cx="25146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he Stock Market Cr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ck values dropped rapidly on Oct. 24,1929; now known as Black Thur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Tuesday stock holders panicked and sold a record 16.410,030 shares of sto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usands people lost huge sums of money as stock values fell far blow the prices pai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outhern Plains were buried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ust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2971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st covered everything, no food to be sent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s bu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s blown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in state of emer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3504960" cy="2738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705720" y="3657600"/>
            <a:ext cx="201456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352680" y="4495680"/>
            <a:ext cx="31244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D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276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he was inaugurated unemployment had increased by 7 mill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ections (like Harlem) had 50% of the pop. un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ted the “New De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2228" t="0" r="8295" b="5352"/>
          <a:stretch/>
        </p:blipFill>
        <p:spPr>
          <a:xfrm>
            <a:off x="4572000" y="1828800"/>
            <a:ext cx="356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8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01:25:05Z</dcterms:created>
  <dc:creator>Yarmouth Schools</dc:creator>
  <dc:description/>
  <dc:language>en-US</dc:language>
  <cp:lastModifiedBy>YHS Teacher</cp:lastModifiedBy>
  <dcterms:modified xsi:type="dcterms:W3CDTF">2009-06-15T14:44:33Z</dcterms:modified>
  <cp:revision>4</cp:revision>
  <dc:subject/>
  <dc:title>Great depression</dc:title>
</cp:coreProperties>
</file>